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4FD-FDB4-43AC-9128-2D05F0D7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601-16B1-485B-AF0F-29A4999A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F5D-378E-4DB8-AD17-4A4E1D98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5DA-695F-46EA-8783-8E66E2AD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AA4-C72A-4DBA-BF40-FE4E5EED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4BA-CB2A-42C9-856D-6CF62491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ADF-0462-439F-802B-56E7C447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699-4998-43FA-9742-61F6DC48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9E6-FB7A-458D-AAAC-7E8EEAE1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6CF-53B2-4C01-9039-D182D01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756-2577-47EF-A971-EA9F32CA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1C4-0B9B-4104-BBA4-2F8D35FA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67C2-D8AF-487E-92AD-0F0FF89FC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4284720"/>
            <a:ext cx="4859280" cy="35060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28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Галилея, Галилея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видетел вечен, мил си нам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 че учил е от твоя бряг Спасителят наш, Господ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8000" y="3933720"/>
            <a:ext cx="4392720" cy="4247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Галилея, Галилея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мето ти е мило на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 целий свят ще се знае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е Господ любил го 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11640" y="4816440"/>
            <a:ext cx="4032360" cy="30186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одата ти Христа носи и слуша Го, що Той учи и съветва от кораба народа Си с сладки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8000" y="3933720"/>
            <a:ext cx="4392720" cy="4247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Галилея, Галилея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мето ти е мило на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 целий свят ще се знае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е Господ любил го 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00720" y="4772160"/>
            <a:ext cx="4643280" cy="39934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мето ти нам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винаги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скъпо ще е,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ще го люби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 Господ наш обича го, проповядва там най-много!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8000" y="3933720"/>
            <a:ext cx="4392720" cy="4247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bbe0e3"/>
                </a:solidFill>
                <a:latin typeface="comic"/>
              </a:rPr>
              <a:t>Припев:</a:t>
            </a:r>
            <a:r>
              <a:rPr b="1" lang="bg-BG" sz="3200" spc="-1" strike="noStrike">
                <a:solidFill>
                  <a:srgbClr val="bbe0e3"/>
                </a:solidFill>
                <a:latin typeface="Monotype Corsiv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Галилея, Галилея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името ти е мило нам!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По целий свят ще се знае, </a:t>
            </a: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                  </a:t>
            </a:r>
            <a:r>
              <a:rPr b="1" lang="bg-BG" sz="3200" spc="-1" strike="noStrike">
                <a:solidFill>
                  <a:srgbClr val="ffffff"/>
                </a:solidFill>
                <a:latin typeface="Monotype Corsiva"/>
              </a:rPr>
              <a:t>че Господ любил го 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0:52:56Z</dcterms:created>
  <dc:creator>TrifonTrifonow</dc:creator>
  <dc:description/>
  <dc:language>en-US</dc:language>
  <cp:lastModifiedBy>TrifonTrifonow</cp:lastModifiedBy>
  <dcterms:modified xsi:type="dcterms:W3CDTF">2005-12-08T11:21:07Z</dcterms:modified>
  <cp:revision>14</cp:revision>
  <dc:subject/>
  <dc:title>Slide 1</dc:title>
</cp:coreProperties>
</file>